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6C6-2F49-4520-B088-42F5A558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FA5-7B70-423B-8332-BC406FED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DA5-176E-41B0-ACFE-B8ADBAC3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38A-5E69-4FDE-9EA5-45244E50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FF8-5B45-4E11-BAF9-E59BECA5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D06-7AC3-4A2A-AC10-48AF8E6C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C31-3EC8-4D72-9DD8-3F8613FA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AE6-0536-47B9-B83B-C746E6D3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8BE-549C-4D3A-853B-03876B05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5EC-B341-4DFB-9610-550EF1BC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131-6869-4CAD-9789-5166DA0E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9D9-1C32-4743-9E30-EE6F41A9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995B-F150-4011-B453-B3C941FB0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rcRect l="25765" t="24590" r="39106" b="12666"/>
          <a:stretch/>
        </p:blipFill>
        <p:spPr>
          <a:xfrm>
            <a:off x="1828800" y="304920"/>
            <a:ext cx="5587920" cy="6237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"/>
          <p:cNvPicPr/>
          <p:nvPr/>
        </p:nvPicPr>
        <p:blipFill>
          <a:blip r:embed="rId2"/>
          <a:srcRect l="25765" t="24590" r="39106" b="12666"/>
          <a:stretch/>
        </p:blipFill>
        <p:spPr>
          <a:xfrm>
            <a:off x="1828800" y="304920"/>
            <a:ext cx="5587920" cy="6237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3"/>
          <a:srcRect l="25765" t="24590" r="39106" b="12666"/>
          <a:stretch/>
        </p:blipFill>
        <p:spPr>
          <a:xfrm>
            <a:off x="1828800" y="304920"/>
            <a:ext cx="5587920" cy="623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"/>
          <p:cNvPicPr/>
          <p:nvPr/>
        </p:nvPicPr>
        <p:blipFill>
          <a:blip r:embed="rId4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5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/>
          <p:cNvPicPr/>
          <p:nvPr/>
        </p:nvPicPr>
        <p:blipFill>
          <a:blip r:embed="rId6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7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8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"/>
          <p:cNvPicPr/>
          <p:nvPr/>
        </p:nvPicPr>
        <p:blipFill>
          <a:blip r:embed="rId9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"/>
          <p:cNvPicPr/>
          <p:nvPr/>
        </p:nvPicPr>
        <p:blipFill>
          <a:blip r:embed="rId10"/>
          <a:srcRect l="25736" t="24836" r="39135" b="13072"/>
          <a:stretch/>
        </p:blipFill>
        <p:spPr>
          <a:xfrm>
            <a:off x="1828800" y="304920"/>
            <a:ext cx="558792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2:47:14Z</dcterms:created>
  <dc:creator>Ghost</dc:creator>
  <dc:description/>
  <dc:language>en-US</dc:language>
  <cp:lastModifiedBy>ghost</cp:lastModifiedBy>
  <dcterms:modified xsi:type="dcterms:W3CDTF">2010-04-16T06:54:26Z</dcterms:modified>
  <cp:revision>15</cp:revision>
  <dc:subject/>
  <dc:title>Slide 1</dc:title>
</cp:coreProperties>
</file>